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A33-5A9C-4AA6-962A-52E140CE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E32-DCD6-485F-A578-515AB82F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56F-5725-45E9-A275-BCD56A0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EC0-4C98-4C5A-BFF1-0FC33F65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A35-5BBA-4B49-9D6B-FB7F84C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366-42C9-453A-9309-7BF29E9D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529-CEFB-453A-A3F2-C7299E2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58E-86DE-4BC8-ADF3-C68043C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B46-29F6-42A9-8E5A-FAFBE2A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A79-3F0D-476B-8FDE-0275EA1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D38-5910-428C-B4FF-01E66B8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80A-205C-4FF3-ACD3-B9B8A59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DC3-3DC4-40A3-8040-201E4A2EEC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XK28298_paisagens-001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nte Castelo – Legião Urb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Landscape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inda que eu falas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 falasse a lín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xd354irn91019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ó o amor, é só o a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conhece o que é 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mor é bom, não quer o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sente inv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 se envaidec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0050927-Paisagens-PauloMachado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mor é o f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arde sem se 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feriada que d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não se 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conten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o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dor que desatina sem do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281761566_113821146_13-TELAS-QUADROS-PINTURAS-A-oLEO-ABSTRATOS-FLORES-PAISAGENS-NUS-MARINAS-RELIGIOSOS-Parana-12817615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inda que eu fa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E falasse a lím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aisagens-de-inverno-7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qu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que bem qu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olitário a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ntre 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não contentar-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co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uidar que se ga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 perd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aisagens-cachoe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paisagens-cachoeir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estar-se p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vont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servir a quem 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enc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ter com quem nos 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eal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ão contrário a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o mesmo am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846_DSC0642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ou acor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todos dormem, todos dor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odos dor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gora vejo em p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È só o amor, é só o a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conhece o que é verdad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03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inda que eu fa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língua dos ho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falasse a língua dos an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amor, eu nada ser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38Z</dcterms:created>
  <dc:creator>SEDMS</dc:creator>
  <dc:description/>
  <dc:language>en-US</dc:language>
  <cp:lastModifiedBy>ACER</cp:lastModifiedBy>
  <dcterms:modified xsi:type="dcterms:W3CDTF">2010-10-19T22:03:10Z</dcterms:modified>
  <cp:revision>2</cp:revision>
  <dc:subject/>
  <dc:title>Mante Catelo – Legião Urbana</dc:title>
</cp:coreProperties>
</file>